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B7C-A956-429F-B33A-4C0B6657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C5B-C797-4BB6-9EB4-4FE7A8E8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519-6239-460C-8371-640C59B7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52C-E094-458D-A481-8E768AED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FAF-4688-4C81-9011-A154AFA1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E6C-533D-410F-992E-FC168CE9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EAD-CDF7-4589-B619-C99291BD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D26-6995-4331-8338-4606B948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D27-4BA1-42A4-BF4C-76A91B41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384-84EA-4375-ACCB-671821D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714-D9D7-402E-BE96-96938D2F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F3C-5DCE-4E64-B2F5-16B4B188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DF72-D74F-43B4-BC52-9E7337468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2064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653000"/>
            <a:ext cx="136692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62064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4653000"/>
            <a:ext cx="136692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263700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565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4653000"/>
            <a:ext cx="1366920" cy="93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620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270828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2637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620640"/>
            <a:ext cx="1366920" cy="93528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70028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5661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5661000"/>
            <a:ext cx="1584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566100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20000" y="1773360"/>
            <a:ext cx="1512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3645000"/>
            <a:ext cx="16574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3716280"/>
            <a:ext cx="1440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71628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3645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26564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397692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26564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048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433692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804000" y="33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332000" y="242100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24360" y="2421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227640" y="24210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1476360" y="4508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3924360" y="458136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6227640" y="450864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468000" y="2881440"/>
            <a:ext cx="3976560" cy="3976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4265640" y="1197000"/>
            <a:ext cx="4265640" cy="426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540720" y="26028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455 -0.01041 L -1.55608 -0.08402 E">
                                      <p:cBhvr>
                                        <p:cTn id="2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615 0.05664 L 1.55226 -0.40476 E">
                                      <p:cBhvr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47 -0.01041 L -1.575 -0.20995 E">
                                      <p:cBhvr>
                                        <p:cTn id="3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87280" y="1052640"/>
            <a:ext cx="74883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Cómo se dice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3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5 elep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4 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12 s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36 ti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anim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260280"/>
            <a:ext cx="8353440" cy="5710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r = colou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labra =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</a:rPr>
              <a:t>azu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lanc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ra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  <a:ea typeface="Arial"/>
              </a:rPr>
              <a:t>ó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33cc"/>
                </a:solidFill>
                <a:latin typeface="Arial"/>
              </a:rPr>
              <a:t>gr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804000" y="33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32000" y="242100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924360" y="2421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227640" y="24210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1476360" y="4508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3924360" y="458136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6227640" y="450864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557360"/>
            <a:ext cx="84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) to learn 10  more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) to revise formation of plurals and adjectival agre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) To hit th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) To find the secret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) To get onto our jigword leader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anim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368928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4552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41212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97656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8:12:43Z</dcterms:created>
  <dc:creator>Chris Fuller</dc:creator>
  <dc:description/>
  <dc:language>en-US</dc:language>
  <cp:lastModifiedBy>Owner1</cp:lastModifiedBy>
  <dcterms:modified xsi:type="dcterms:W3CDTF">2008-10-06T16:42:40Z</dcterms:modified>
  <cp:revision>5</cp:revision>
  <dc:subject/>
  <dc:title>Slide 1</dc:title>
</cp:coreProperties>
</file>